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956-AFE3-4F4A-8A83-F6ECA1CF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442-D4C9-4ACB-BB42-5500172A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7032-C0DD-42BB-BD70-DFB3B975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D15-F1AA-4D8D-9F70-3F5E52CB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64C-D141-45EF-BBF9-F463542E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3E8-4969-49F6-BB47-53F1CDB3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859D-87C4-4950-B839-42582BAE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15A-BB50-4E14-8A1B-A940AAE0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E7B-55CE-41BC-89D0-BEA5FC71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F997-51DB-4A1B-9250-DD80931C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1631-CA03-47D4-895D-6754D326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C3EB-384D-45B6-B1AE-8256BE5A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5B59-7E8B-4408-BE40-3A23CEA85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2.jpeg"/><Relationship Id="rId6" Type="http://schemas.openxmlformats.org/officeDocument/2006/relationships/image" Target="../media/image1.jpeg"/><Relationship Id="rId7" Type="http://schemas.openxmlformats.org/officeDocument/2006/relationships/image" Target="../media/image7.jpeg"/><Relationship Id="rId8" Type="http://schemas.openxmlformats.org/officeDocument/2006/relationships/image" Target="../media/image13.jpeg"/><Relationship Id="rId9" Type="http://schemas.openxmlformats.org/officeDocument/2006/relationships/image" Target="../media/image6.jpeg"/><Relationship Id="rId10" Type="http://schemas.openxmlformats.org/officeDocument/2006/relationships/image" Target="../media/image11.jpeg"/><Relationship Id="rId11" Type="http://schemas.openxmlformats.org/officeDocument/2006/relationships/image" Target="../media/image10.jpeg"/><Relationship Id="rId12" Type="http://schemas.openxmlformats.org/officeDocument/2006/relationships/image" Target="../media/image5.jpeg"/><Relationship Id="rId13" Type="http://schemas.openxmlformats.org/officeDocument/2006/relationships/image" Target="../media/image4.jpeg"/><Relationship Id="rId14" Type="http://schemas.openxmlformats.org/officeDocument/2006/relationships/image" Target="../media/image3.jpeg"/><Relationship Id="rId15" Type="http://schemas.openxmlformats.org/officeDocument/2006/relationships/image" Target="../media/image2.jpe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8810000%5B1%5D.wav" TargetMode="External"/><Relationship Id="rId2" Type="http://schemas.microsoft.com/office/2007/relationships/media" Target="file:///tmp/home/.config/libreoffice/4/user/gallery/MSj00748810000%5B1%5D.wav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chnell wie ‘ne Gril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6248520" cy="416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leise wie eine Musche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3880" y="714240"/>
            <a:ext cx="6096240" cy="446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tapfer wie ein Tig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4008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cheu wie eine Krabb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81120" y="914400"/>
            <a:ext cx="6039000" cy="426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faul wie eine Eidech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-2002" t="13335" r="0" b="0"/>
          <a:stretch/>
        </p:blipFill>
        <p:spPr>
          <a:xfrm>
            <a:off x="2514600" y="380880"/>
            <a:ext cx="3876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fleissig wie eine Bie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71600" y="493560"/>
            <a:ext cx="640080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7593" t="2345" r="4153" b="27879"/>
          <a:stretch/>
        </p:blipFill>
        <p:spPr>
          <a:xfrm>
            <a:off x="609480" y="-533520"/>
            <a:ext cx="7696440" cy="7391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457200"/>
            <a:ext cx="1828800" cy="1405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90920" y="1233360"/>
            <a:ext cx="2057400" cy="135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rcRect l="-2002" t="13335" r="0" b="0"/>
          <a:stretch/>
        </p:blipFill>
        <p:spPr>
          <a:xfrm>
            <a:off x="4419720" y="0"/>
            <a:ext cx="1312920" cy="1676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rcRect l="23081" t="0" r="12825" b="10476"/>
          <a:stretch/>
        </p:blipFill>
        <p:spPr>
          <a:xfrm>
            <a:off x="914400" y="1981080"/>
            <a:ext cx="1905120" cy="176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rcRect l="12069" t="18114" r="27587" b="12023"/>
          <a:stretch/>
        </p:blipFill>
        <p:spPr>
          <a:xfrm>
            <a:off x="838080" y="0"/>
            <a:ext cx="2057400" cy="1587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629400" y="2895480"/>
            <a:ext cx="1600200" cy="2398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rcRect l="0" t="0" r="0" b="19089"/>
          <a:stretch/>
        </p:blipFill>
        <p:spPr>
          <a:xfrm>
            <a:off x="5029200" y="1828800"/>
            <a:ext cx="2362320" cy="1433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rcRect l="0" t="13875" r="15217" b="26213"/>
          <a:stretch/>
        </p:blipFill>
        <p:spPr>
          <a:xfrm>
            <a:off x="3505320" y="4572000"/>
            <a:ext cx="220968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rcRect l="33136" t="0" r="0" b="591"/>
          <a:stretch/>
        </p:blipFill>
        <p:spPr>
          <a:xfrm>
            <a:off x="3505320" y="2666880"/>
            <a:ext cx="1708200" cy="190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rcRect l="-3873" t="15582" r="0" b="0"/>
          <a:stretch/>
        </p:blipFill>
        <p:spPr>
          <a:xfrm>
            <a:off x="2003400" y="3581280"/>
            <a:ext cx="1501920" cy="1828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rcRect l="12087" t="14582" r="35167" b="-421"/>
          <a:stretch/>
        </p:blipFill>
        <p:spPr>
          <a:xfrm>
            <a:off x="3124080" y="0"/>
            <a:ext cx="12416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rcRect l="0" t="13252" r="3772" b="9380"/>
          <a:stretch/>
        </p:blipFill>
        <p:spPr>
          <a:xfrm>
            <a:off x="5715000" y="4724280"/>
            <a:ext cx="2438280" cy="1290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rcRect l="16181" t="3294" r="19124" b="20989"/>
          <a:stretch/>
        </p:blipFill>
        <p:spPr>
          <a:xfrm>
            <a:off x="5526000" y="3352680"/>
            <a:ext cx="8748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rcRect l="3750" t="11251" r="33750" b="0"/>
          <a:stretch/>
        </p:blipFill>
        <p:spPr>
          <a:xfrm>
            <a:off x="609480" y="41148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579132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n alles zusammen komm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17524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/>
          <a:stretch/>
        </p:blipFill>
        <p:spPr>
          <a:xfrm>
            <a:off x="3657600" y="1219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tretch/>
        </p:blipFill>
        <p:spPr>
          <a:xfrm>
            <a:off x="4952880" y="-76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9"/>
          <a:stretch/>
        </p:blipFill>
        <p:spPr>
          <a:xfrm>
            <a:off x="18288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0"/>
          <a:stretch/>
        </p:blipFill>
        <p:spPr>
          <a:xfrm>
            <a:off x="12952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657600" y="-15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2"/>
          <a:stretch/>
        </p:blipFill>
        <p:spPr>
          <a:xfrm>
            <a:off x="266688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3"/>
          <a:stretch/>
        </p:blipFill>
        <p:spPr>
          <a:xfrm>
            <a:off x="43434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4"/>
          <a:stretch/>
        </p:blipFill>
        <p:spPr>
          <a:xfrm>
            <a:off x="44956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5"/>
          <a:stretch/>
        </p:blipFill>
        <p:spPr>
          <a:xfrm>
            <a:off x="6705720" y="380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6"/>
          <a:stretch/>
        </p:blipFill>
        <p:spPr>
          <a:xfrm>
            <a:off x="609588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7"/>
          <a:stretch/>
        </p:blipFill>
        <p:spPr>
          <a:xfrm>
            <a:off x="594360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8"/>
          <a:stretch/>
        </p:blipFill>
        <p:spPr>
          <a:xfrm>
            <a:off x="7467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9"/>
          <a:stretch/>
        </p:blipFill>
        <p:spPr>
          <a:xfrm>
            <a:off x="7010280" y="4648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50830" r="-726" b="0"/>
          <a:stretch/>
        </p:blipFill>
        <p:spPr>
          <a:xfrm>
            <a:off x="1600200" y="762120"/>
            <a:ext cx="6248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62120" y="5638680"/>
            <a:ext cx="754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bin i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4100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langsam wie ‘ne Schneck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553080" cy="43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klein wie ‘ne Amei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1860" b="12726"/>
          <a:stretch/>
        </p:blipFill>
        <p:spPr>
          <a:xfrm>
            <a:off x="2209680" y="762120"/>
            <a:ext cx="50292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gross wie ein W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2148" t="3227" r="3226" b="6972"/>
          <a:stretch/>
        </p:blipFill>
        <p:spPr>
          <a:xfrm>
            <a:off x="1523880" y="609480"/>
            <a:ext cx="64008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nett wie ein Ha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736560"/>
            <a:ext cx="6553080" cy="444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fies wie ein Haifisc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571680"/>
            <a:ext cx="6629400" cy="438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4400" y="5410080"/>
            <a:ext cx="7315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chwach wie ein Kätsch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3327480" cy="498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5410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stark wie ein Ochs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267600" cy="41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5715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h bin so laut wie ein Löw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rcRect l="-3873" t="15582" r="0" b="0"/>
          <a:stretch/>
        </p:blipFill>
        <p:spPr>
          <a:xfrm>
            <a:off x="2666880" y="380880"/>
            <a:ext cx="4065840" cy="495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1:50:12Z</dcterms:created>
  <dc:creator>Patrick Hart</dc:creator>
  <dc:description/>
  <dc:language>en-US</dc:language>
  <cp:lastModifiedBy>udsd</cp:lastModifiedBy>
  <dcterms:modified xsi:type="dcterms:W3CDTF">2010-10-01T18:09:13Z</dcterms:modified>
  <cp:revision>4</cp:revision>
  <dc:subject/>
  <dc:title>Slide 1</dc:title>
</cp:coreProperties>
</file>